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8783DD-F682-443F-8F11-756351F4762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DEC753-4B06-433B-9A8B-82B1A6D1DF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BA80C2-EC5A-422A-B4CA-BE0616DE7D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A012F2-5ED3-4F7B-A489-180A182EE8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7840" cy="40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DF8044-E6DE-426B-8FA0-FE5162A354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7840" cy="40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84E2-FFB0-4E45-86AD-3B71BE9DE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8F41-FC65-444A-BEA6-5912F3E9D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31F7-D0FC-4D66-B8A4-7EB3C60F4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5E1D-1CB5-4DBB-89ED-42343FA02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DA93B-5ADC-4B36-A778-2B5A5FF14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22E6B-C7D5-4831-8940-662E6F39A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80A5B-01E8-4A73-A64D-793173349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CC938-B5B1-408D-BB92-91413205D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0D07C-8905-44C5-8F42-63AC59CCB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539AF-E984-4860-912B-8FABF9D5E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97F15-7902-4D1C-A15C-18550CFBA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CE38-4F34-4900-BCA2-54D935A9F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281F9-23A6-4902-AB34-65CACE7B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507DD-EF8B-4265-B1FE-0DC82C4B0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20D1D-9B3E-4C0B-B45C-DA1217F7C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D3962-988C-4B0E-85B6-D9F7AE93F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24ABB-3464-4DA8-9868-6C522908B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AA3D93-BA09-42F9-849D-AC22E535B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5C1619-BD14-4368-8A13-D3417EF79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B7A1A6-1D44-4C97-A919-2C784C92D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060A08-CDEA-4F71-8BAC-FCB658E7F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391FF5-2127-4EFB-8EDA-D102604BD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354A-0412-4872-B228-8BB2BBB92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16CAA6-7563-4B2A-93BC-1856DB7CD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3599FF-11D1-4007-A428-4CA5935F2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659AC8-C623-437E-9205-DFE0FDFF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1A7B2E-C224-4460-837A-0D9228AB8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00E6B1-F69F-4B62-87C0-0B9EAD3A0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A45EA6-434F-48B8-87D1-4168EEF9C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27883A-A470-4E36-9901-D0F59E29A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7BCF9-A801-4FFB-AC7D-B2F55EF68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B0E7B-6EA7-4EC8-866A-7872DE70B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9281F-6565-485C-8488-C4BCB25BF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4DCA-8A76-41FE-A5AC-65E2B2688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F6824-322F-462B-816B-D53460CDF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96F1E-89B4-449F-91CE-19A0EFC7B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432D9-4C3B-4A43-BC67-F096ECB6F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BF1A4-1C4D-4501-A813-58A2E795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C2449-DE2F-47C6-AFD1-995C81D1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8A46E-C3D8-4DF4-AD13-B0E9A08A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9C6B1-DF53-45D6-9610-D346E06EB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01F11-F609-4066-82FD-7CD99CD56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7A512-EFC3-4356-9F75-622D6184F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04C10E-9111-45F4-803C-11A13E7D6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9093-E354-4039-A61A-A0358013D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48DF0F-C860-4FAD-81AC-18830AD00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5702DA-C87B-40F3-B7EE-F95C3246E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0CA484-3E62-426E-B2E4-49CB4E221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9FB620-2654-4D29-B272-E32B57029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249579-23C8-4840-A92D-D80682577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2AC87F-FBBD-4446-A61D-96E49E27A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0AEF7F-7DB2-43D5-BE18-FE53871E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5C84F3-FA01-4B92-952A-7AD44760E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A5DFF7-0E08-4457-87E1-FDEF870B9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82EA35-8F12-4FC2-AE1B-DA4491878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7A52-2B30-4969-B892-B50939536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B7E785-EFDC-453B-8AF3-C65DFF4BC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45731F-3D10-456C-A965-366AAF559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9569A5-8B2F-4F2D-B2CE-EDEFD6726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92EB52-60B5-4DBF-9B45-283A5978E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53FEC8-6337-428C-AB4A-CBCA63D62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877A26-8F44-4248-8052-B69FC4C61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10DEBB-9576-46E1-B99C-266AEE3C9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4412B0-06EC-4EF0-B5A7-A5531AB1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9B6E19-18AD-4AE6-ABA9-71FF734A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03510B-91E8-40F8-99F1-57ED78CA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693E-C40D-484F-99D3-5CA1A483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047EB0-0E2F-4B55-904A-19A3BB8C6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E897D6-078B-4A84-A1AB-E98A76CD2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6C8738-FB48-4886-B3DE-A75772D96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5943EF-A65C-4947-814D-E2728DC9F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33F660-0C4A-40E3-8597-BC39BFB26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F8A1A8-73F3-4BAB-BE67-CA936497A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592DBB-1DEC-4F82-96DF-9342DEDB7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4B415C-F106-4A8B-9DC4-1E9B6750A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49F037-E6F1-41D0-B461-9F067D642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D52D52-ABAD-41D3-94FA-85DBAD6A0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8154-B9CA-4E08-8FD8-F3585A69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388081-5B1B-424D-A791-C4CD42EC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C5F01E-FCAC-4DC9-AF1E-2C0782170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47AABC-59FC-4002-96A3-EB58A99F3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710A46-F946-4119-A7DD-44F2AC01D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D54BDB-5E18-4B1A-849B-BB944C5E1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4ADC-C3B4-48B4-949C-9DA689376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238EE2-3118-4836-849E-A10CDA470F24}" type="datetime"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3186E5-1985-48E4-A58F-33A5019AE6E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19724D-0B82-49F8-A714-9F94AD62B8D0}" type="datetime"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92B138-17A1-4304-B790-EB81A89F0EF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7B7947-FB19-40DA-92C4-FB30A55E53D8}" type="datetime"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AF4F87-7DBF-4026-9023-8F13322FB92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1CF73F-A2F4-48D6-A63E-2E15B2BEF817}" type="datetime"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271DA2-8676-4F61-96AC-90C7B010778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A7F8B9-792D-4B97-96CC-1A5231A8AE71}" type="datetime"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FB5665-1EFC-433D-9B09-4D049C993FE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7E391F-05DE-4DE9-BDD7-FF5BAE093B82}" type="datetime"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70F79B-986A-4357-9A6B-EB0EC9EF282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722CE2-B2E6-4AFA-A29C-58DAB65587EE}" type="datetime"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11236D-C442-4CD9-BED5-42FC5AEACE0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WEB-BASED BIOINFORMATICS PIPELINES FOR BIOLOGIST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Integrative Services for Genomic Analysis (ISGA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Chris Hemmerich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Center for Genomics and Bioformatic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CONTACT: biohelp@cgb.indiana.edu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THE GOAL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8" name="Content Placeholder 3" descr="new-usage.eps"/>
          <p:cNvPicPr/>
          <p:nvPr/>
        </p:nvPicPr>
        <p:blipFill>
          <a:blip r:embed="rId1"/>
          <a:srcRect l="0" t="-565" r="0" b="-565"/>
          <a:stretch/>
        </p:blipFill>
        <p:spPr>
          <a:xfrm>
            <a:off x="457200" y="1600200"/>
            <a:ext cx="746748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285640" y="2895120"/>
            <a:ext cx="6172200" cy="20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ISGA: WHIRLWIND TOU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285640" y="50101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3" descr=""/>
          <p:cNvPicPr/>
          <p:nvPr/>
        </p:nvPicPr>
        <p:blipFill>
          <a:blip r:embed="rId1"/>
          <a:stretch/>
        </p:blipFill>
        <p:spPr>
          <a:xfrm>
            <a:off x="247680" y="0"/>
            <a:ext cx="8039160" cy="681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IPELINE CUSTOMIZA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bility to toggle some clusters on/off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ome clusters contain parallel programs that can be independently toggled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bility to edit component parameter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bility to save customizations to use with later data se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IPELINE BUILD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5" name="Picture 4" descr="Screen shot 2010-01-14 at 10.01.40 AM.png"/>
          <p:cNvPicPr/>
          <p:nvPr/>
        </p:nvPicPr>
        <p:blipFill>
          <a:blip r:embed="rId1"/>
          <a:stretch/>
        </p:blipFill>
        <p:spPr>
          <a:xfrm>
            <a:off x="0" y="1417680"/>
            <a:ext cx="9144000" cy="45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RUN STATU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8" name="Picture 6" descr="Screen shot 2010-01-14 at 10.03.31 AM.png"/>
          <p:cNvPicPr/>
          <p:nvPr/>
        </p:nvPicPr>
        <p:blipFill>
          <a:blip r:embed="rId1"/>
          <a:stretch/>
        </p:blipFill>
        <p:spPr>
          <a:xfrm>
            <a:off x="0" y="1079640"/>
            <a:ext cx="9004320" cy="57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SGA PIPELINE EXECU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SGA writes configuration and pipeline definition files to the Ergatis install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SGA then triggers execution through Ergatis and receives the pipeline id in retur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tatus is updated directly from Ergatis XML fi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lected output is copied to ISGA, and the rest is available for download if neede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SGA TOOLBOX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cludes a GBrowse instance for visualizing annotation resul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LAST support for pipeline results as query or databa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ext search against annotation resul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ools can be executed over SGE and monitore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ADMINISTRATIVE TOOL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ightly monitor status in ISGA w/ link to Ergatis   p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otification when pipeline fails, ISGA will pick up a resumed pipelin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bility to redirect ISGA to a cloned Ergatis pipeline or cancel (w/ user notification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isable new job submissio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UNDER THE HOO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Rectangle 2"/>
          <p:cNvSpPr/>
          <p:nvPr/>
        </p:nvSpPr>
        <p:spPr>
          <a:xfrm>
            <a:off x="1255680" y="3633840"/>
            <a:ext cx="5791320" cy="2895480"/>
          </a:xfrm>
          <a:prstGeom prst="rect">
            <a:avLst/>
          </a:prstGeom>
          <a:solidFill>
            <a:srgbClr val="fff39d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3"/>
          <p:cNvSpPr/>
          <p:nvPr/>
        </p:nvSpPr>
        <p:spPr>
          <a:xfrm>
            <a:off x="1255680" y="1424160"/>
            <a:ext cx="5718240" cy="1914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8"/>
          <p:cNvSpPr/>
          <p:nvPr/>
        </p:nvSpPr>
        <p:spPr>
          <a:xfrm flipH="1" flipV="1">
            <a:off x="4760640" y="4776480"/>
            <a:ext cx="222120" cy="22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9"/>
          <p:cNvSpPr/>
          <p:nvPr/>
        </p:nvSpPr>
        <p:spPr>
          <a:xfrm>
            <a:off x="3998880" y="3328920"/>
            <a:ext cx="0" cy="298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10"/>
          <p:cNvSpPr/>
          <p:nvPr/>
        </p:nvSpPr>
        <p:spPr>
          <a:xfrm>
            <a:off x="3922560" y="5310360"/>
            <a:ext cx="447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12"/>
          <p:cNvSpPr/>
          <p:nvPr/>
        </p:nvSpPr>
        <p:spPr>
          <a:xfrm>
            <a:off x="1640160" y="1881360"/>
            <a:ext cx="18752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peline builder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ome brows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nitor pipel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wnload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ast 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3"/>
          <p:cNvSpPr/>
          <p:nvPr/>
        </p:nvSpPr>
        <p:spPr>
          <a:xfrm>
            <a:off x="5711760" y="1995480"/>
            <a:ext cx="63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6"/>
          <p:cNvSpPr/>
          <p:nvPr/>
        </p:nvSpPr>
        <p:spPr>
          <a:xfrm>
            <a:off x="2666880" y="1494000"/>
            <a:ext cx="244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SGA Web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Group 26"/>
          <p:cNvGrpSpPr/>
          <p:nvPr/>
        </p:nvGrpSpPr>
        <p:grpSpPr>
          <a:xfrm>
            <a:off x="1484280" y="5005440"/>
            <a:ext cx="2597040" cy="983520"/>
            <a:chOff x="1484280" y="5005440"/>
            <a:chExt cx="2597040" cy="983520"/>
          </a:xfrm>
        </p:grpSpPr>
        <p:sp>
          <p:nvSpPr>
            <p:cNvPr id="406" name="Rectangle 5"/>
            <p:cNvSpPr/>
            <p:nvPr/>
          </p:nvSpPr>
          <p:spPr>
            <a:xfrm>
              <a:off x="1484280" y="5005440"/>
              <a:ext cx="2597040" cy="9662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Text Box 15"/>
            <p:cNvSpPr/>
            <p:nvPr/>
          </p:nvSpPr>
          <p:spPr>
            <a:xfrm>
              <a:off x="1523880" y="5377320"/>
              <a:ext cx="206532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ioinformatics tool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put and resul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Text Box 17"/>
            <p:cNvSpPr/>
            <p:nvPr/>
          </p:nvSpPr>
          <p:spPr>
            <a:xfrm>
              <a:off x="1524960" y="5034240"/>
              <a:ext cx="196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hared Stor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Rectangle 4"/>
          <p:cNvSpPr/>
          <p:nvPr/>
        </p:nvSpPr>
        <p:spPr>
          <a:xfrm>
            <a:off x="3983040" y="1944720"/>
            <a:ext cx="2746440" cy="12193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18"/>
          <p:cNvSpPr/>
          <p:nvPr/>
        </p:nvSpPr>
        <p:spPr>
          <a:xfrm>
            <a:off x="4073040" y="1944720"/>
            <a:ext cx="27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greSQL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19"/>
          <p:cNvSpPr/>
          <p:nvPr/>
        </p:nvSpPr>
        <p:spPr>
          <a:xfrm>
            <a:off x="4074480" y="2338560"/>
            <a:ext cx="2185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peline spec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r accou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notation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2" name="Group 29"/>
          <p:cNvGrpSpPr/>
          <p:nvPr/>
        </p:nvGrpSpPr>
        <p:grpSpPr>
          <a:xfrm>
            <a:off x="2855880" y="3786120"/>
            <a:ext cx="2450880" cy="965160"/>
            <a:chOff x="2855880" y="3786120"/>
            <a:chExt cx="2450880" cy="965160"/>
          </a:xfrm>
        </p:grpSpPr>
        <p:sp>
          <p:nvSpPr>
            <p:cNvPr id="413" name="Rectangle 7"/>
            <p:cNvSpPr/>
            <p:nvPr/>
          </p:nvSpPr>
          <p:spPr>
            <a:xfrm>
              <a:off x="2855880" y="3786120"/>
              <a:ext cx="2450880" cy="9651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20"/>
            <p:cNvSpPr/>
            <p:nvPr/>
          </p:nvSpPr>
          <p:spPr>
            <a:xfrm>
              <a:off x="3210840" y="4110120"/>
              <a:ext cx="1945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XML configur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orkflow eng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Text Box 21"/>
            <p:cNvSpPr/>
            <p:nvPr/>
          </p:nvSpPr>
          <p:spPr>
            <a:xfrm>
              <a:off x="3598560" y="3786120"/>
              <a:ext cx="97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rgati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Rectangle 6"/>
          <p:cNvSpPr/>
          <p:nvPr/>
        </p:nvSpPr>
        <p:spPr>
          <a:xfrm>
            <a:off x="4379760" y="5005440"/>
            <a:ext cx="2451240" cy="965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22"/>
          <p:cNvSpPr/>
          <p:nvPr/>
        </p:nvSpPr>
        <p:spPr>
          <a:xfrm>
            <a:off x="4602240" y="5018040"/>
            <a:ext cx="204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n Grid Eng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23"/>
          <p:cNvSpPr/>
          <p:nvPr/>
        </p:nvSpPr>
        <p:spPr>
          <a:xfrm>
            <a:off x="4610520" y="538632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utation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b schedu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4"/>
          <p:cNvSpPr/>
          <p:nvPr/>
        </p:nvSpPr>
        <p:spPr>
          <a:xfrm>
            <a:off x="3161160" y="6072120"/>
            <a:ext cx="184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SGA Back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30"/>
          <p:cNvSpPr/>
          <p:nvPr/>
        </p:nvSpPr>
        <p:spPr>
          <a:xfrm flipV="1">
            <a:off x="3160080" y="4776480"/>
            <a:ext cx="222120" cy="22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285640" y="2895120"/>
            <a:ext cx="6172200" cy="20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JUSTIFICATION AND HISTORY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285640" y="50101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UNDER THE HOOD (CONTINUED)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erl &amp; jQuer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ersistence = PostgreSQL &amp; YAML &amp; XM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ason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asonX::WebAp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acked up HTML::FormEngin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285640" y="2895120"/>
            <a:ext cx="6172200" cy="20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ADDING AN ERGATIS PIPELINE TO ISG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285640" y="50101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8039160" cy="6811920"/>
          </a:xfrm>
          <a:prstGeom prst="rect">
            <a:avLst/>
          </a:prstGeom>
          <a:ln w="0">
            <a:noFill/>
          </a:ln>
        </p:spPr>
      </p:pic>
      <p:sp>
        <p:nvSpPr>
          <p:cNvPr id="426" name="TextBox 4"/>
          <p:cNvSpPr/>
          <p:nvPr/>
        </p:nvSpPr>
        <p:spPr>
          <a:xfrm>
            <a:off x="5865840" y="0"/>
            <a:ext cx="327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64 Ergatis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FIRST: UNDERSTAND THE PIPELIN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SGA takes a description of an Ergatis pipelin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YAML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Database Schem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Ergatis component .config fil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ocument input and output of all componen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ich components are optional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e user can upload previously generated data in their stead?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lternative data from the pipeline can be used?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e pipeline is still useful without this functionality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IMPLIFICA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ur microbial annotation pipeline is composed of 64 Ergatis componen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Impossible to diagram for you on a slide or for  a biologist on our web pag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any of these components are file format conversions, program iterations, database preparation, etc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ey are not relevant to a high level view of the pipeline and offer no useful parameters for a biologist to customiz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USTERS OF ERGATIS COMPONENT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57200" y="1600200"/>
            <a:ext cx="8229600" cy="25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reak the pipeline into biologically meaningful clusters of one or more component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is is as much art as science, may depend on your audienc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Example: ‘Alternative Start Site Analysis’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33" name="TextBox 3" descr=""/>
          <p:cNvPicPr/>
          <p:nvPr/>
        </p:nvPicPr>
        <p:blipFill>
          <a:blip r:embed="rId1"/>
          <a:stretch/>
        </p:blipFill>
        <p:spPr>
          <a:xfrm>
            <a:off x="450720" y="4309920"/>
            <a:ext cx="824256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OMPONENT CUSTOMIZA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cripts and XML files are unchange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SGA stores the configuration template for each componen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mponents with editable parameters have a YAML definition that is used to build the web for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se values are incorporated into the configuration templa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OMPONENT TEMPLAT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--- !perl/ISGA::ComponentBuilder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Name: RNAmmer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Description: ‘RNAmmerpredicts 5s/8s, 16s/18s, and …’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arams: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- { templ: 'select', NAME: 'molecules', TITLE: 'rRNA Molecules', REQUIRED: 1, OPTION: ['ssu (5/8s rRNA)', 'lsu (16 /18s rRNA)', 'tsu (23/28s rRNA)', 'ssu and lsu', …], OPT_VAL: ['ssu' , 'lsu', 'tsu', 'ssu,lsu’, …], VALUE: 'ssu,lsu,tsu', DESCRIPTION: 'Declare what rRNA molecule types to search for.', </a:t>
            </a:r>
            <a:r>
              <a:rPr b="0" lang="en-US" sz="2200" spc="-1" strike="noStrike">
                <a:solidFill>
                  <a:srgbClr val="0000ff"/>
                </a:solidFill>
                <a:latin typeface="Century Schoolbook"/>
              </a:rPr>
              <a:t>CONFIGLINE: '___molecule___’ 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RunBuilderParams: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- { templ: 'hidden', NAME: 'project_id_root', TITLE: 'Project Id Root', REQUIRED: 1, DESCRIPTION: 'The Id root used in bsml id generation', </a:t>
            </a:r>
            <a:r>
              <a:rPr b="0" lang="en-US" sz="2200" spc="-1" strike="noStrike">
                <a:solidFill>
                  <a:srgbClr val="0000ff"/>
                </a:solidFill>
                <a:latin typeface="Century Schoolbook"/>
              </a:rPr>
              <a:t>CONFIGLINE: '___project_id_root___' 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FUTURE ISGA WORK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corporate additional pipelin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mall prokaryotic assembly pipelin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Comparative genomic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Functional genomic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dd additional featur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ake pipelines modular components of ISG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Implement pipeline versioning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Pipeline and data sharing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rgatis Cloud Support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SG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42" name="Picture 4" descr="Chris_Hemmerich"/>
          <p:cNvPicPr/>
          <p:nvPr/>
        </p:nvPicPr>
        <p:blipFill>
          <a:blip r:embed="rId1"/>
          <a:stretch/>
        </p:blipFill>
        <p:spPr>
          <a:xfrm>
            <a:off x="2209680" y="2666880"/>
            <a:ext cx="1462320" cy="182736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6" descr="Aaron_Buechlein"/>
          <p:cNvPicPr/>
          <p:nvPr/>
        </p:nvPicPr>
        <p:blipFill>
          <a:blip r:embed="rId2"/>
          <a:stretch/>
        </p:blipFill>
        <p:spPr>
          <a:xfrm>
            <a:off x="457200" y="2666880"/>
            <a:ext cx="1417680" cy="183060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7" descr="Qunfeng_Dong"/>
          <p:cNvPicPr/>
          <p:nvPr/>
        </p:nvPicPr>
        <p:blipFill>
          <a:blip r:embed="rId3"/>
          <a:stretch/>
        </p:blipFill>
        <p:spPr>
          <a:xfrm>
            <a:off x="7162920" y="2666880"/>
            <a:ext cx="1461960" cy="1828800"/>
          </a:xfrm>
          <a:prstGeom prst="rect">
            <a:avLst/>
          </a:prstGeom>
          <a:ln w="0">
            <a:noFill/>
          </a:ln>
        </p:spPr>
      </p:pic>
      <p:sp>
        <p:nvSpPr>
          <p:cNvPr id="445" name="Text Box 8"/>
          <p:cNvSpPr/>
          <p:nvPr/>
        </p:nvSpPr>
        <p:spPr>
          <a:xfrm>
            <a:off x="7089840" y="472428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nfeng D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9"/>
          <p:cNvSpPr/>
          <p:nvPr/>
        </p:nvSpPr>
        <p:spPr>
          <a:xfrm>
            <a:off x="3746160" y="472428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shi Revan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0"/>
          <p:cNvSpPr/>
          <p:nvPr/>
        </p:nvSpPr>
        <p:spPr>
          <a:xfrm>
            <a:off x="1984320" y="510552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 Hemmer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1"/>
          <p:cNvSpPr/>
          <p:nvPr/>
        </p:nvSpPr>
        <p:spPr>
          <a:xfrm>
            <a:off x="156240" y="472428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aron Buechl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12" descr="Ram"/>
          <p:cNvPicPr/>
          <p:nvPr/>
        </p:nvPicPr>
        <p:blipFill>
          <a:blip r:embed="rId4"/>
          <a:stretch/>
        </p:blipFill>
        <p:spPr>
          <a:xfrm>
            <a:off x="5562720" y="2666880"/>
            <a:ext cx="1434960" cy="1822680"/>
          </a:xfrm>
          <a:prstGeom prst="rect">
            <a:avLst/>
          </a:prstGeom>
          <a:ln w="0">
            <a:noFill/>
          </a:ln>
        </p:spPr>
      </p:pic>
      <p:sp>
        <p:nvSpPr>
          <p:cNvPr id="450" name="Text Box 13"/>
          <p:cNvSpPr/>
          <p:nvPr/>
        </p:nvSpPr>
        <p:spPr>
          <a:xfrm>
            <a:off x="5565960" y="510552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m Podiche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6" descr="Kashi_Vishwanath_Revanna"/>
          <p:cNvPicPr/>
          <p:nvPr/>
        </p:nvPicPr>
        <p:blipFill>
          <a:blip r:embed="rId5"/>
          <a:stretch/>
        </p:blipFill>
        <p:spPr>
          <a:xfrm>
            <a:off x="3886200" y="2666880"/>
            <a:ext cx="153036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SGA BACKGROUN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Provide a high-throughput microbial annotation service to local biologis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entury Schoolbook"/>
              </a:rPr>
              <a:t>Reliable and pipelined executio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entury Schoolbook"/>
              </a:rPr>
              <a:t>Efficient maintenanc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entury Schoolbook"/>
              </a:rPr>
              <a:t>Provide privacy and security for dat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igh-quality (automated) annot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Biologists able to customize parameter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ble to incorporate new programs and pipelin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ERGATIS (ERGATIS.SOURCEFORGE.NET)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604880"/>
            <a:ext cx="822816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Web-based analysis pipeline too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31640" indent="-3236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Wraps tools and utilities in “components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31640" indent="-3236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Ability to add new componen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31640" indent="-3236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Build new and customize existing pipelin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31640" indent="-3236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In-depth monitoring of pipelin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31640" indent="-3236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Underlying Workflow package supports S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31640" indent="-3236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XML/BSML common data exchange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31640" indent="-3236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Includes prokaryotic annotation pipelin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ERGATIS WORKFLOW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7" name="Content Placeholder 6" descr="ergatis-dia1.eps"/>
          <p:cNvPicPr/>
          <p:nvPr/>
        </p:nvPicPr>
        <p:blipFill>
          <a:blip r:embed="rId1"/>
          <a:srcRect l="0" t="-16380" r="54685" b="-16380"/>
          <a:stretch/>
        </p:blipFill>
        <p:spPr>
          <a:xfrm>
            <a:off x="2471760" y="1600200"/>
            <a:ext cx="338436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A SLIGHT CORRE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9" name="Content Placeholder 4" descr="ergatis-dia1.eps"/>
          <p:cNvPicPr/>
          <p:nvPr/>
        </p:nvPicPr>
        <p:blipFill>
          <a:blip r:embed="rId1"/>
          <a:srcRect l="44693" t="-16380" r="0" b="-16380"/>
          <a:stretch/>
        </p:blipFill>
        <p:spPr>
          <a:xfrm>
            <a:off x="2260440" y="1600200"/>
            <a:ext cx="413100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Y NOT EXPOSE ERGATIS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sufficient accounts and permissio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red interface for building and customizing pipelin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sers must submit and retrieve results through filesyste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ipeline monitoring interface is slow and complex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formation of use to biologists is lost in “noise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High umber of components in a pipelin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Complexity of configuration interfac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"/>
          <p:cNvPicPr/>
          <p:nvPr/>
        </p:nvPicPr>
        <p:blipFill>
          <a:blip r:embed="rId1"/>
          <a:stretch/>
        </p:blipFill>
        <p:spPr>
          <a:xfrm>
            <a:off x="1503360" y="0"/>
            <a:ext cx="6791400" cy="685800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2"/>
          <p:cNvSpPr/>
          <p:nvPr/>
        </p:nvSpPr>
        <p:spPr>
          <a:xfrm>
            <a:off x="1503360" y="1801800"/>
            <a:ext cx="6791400" cy="1230480"/>
          </a:xfrm>
          <a:prstGeom prst="rect">
            <a:avLst/>
          </a:prstGeom>
          <a:solidFill>
            <a:srgbClr val="ff0000">
              <a:alpha val="13000"/>
            </a:srgbClr>
          </a:solidFill>
          <a:ln w="12600">
            <a:solidFill>
              <a:srgbClr val="ff6903"/>
            </a:solidFill>
            <a:miter/>
          </a:ln>
          <a:effectLst>
            <a:outerShdw dist="20160" dir="5400000" blurRad="0" rotWithShape="0">
              <a:srgbClr val="808080">
                <a:alpha val="4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OUR SOLU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velop an alternative interface for biologists that uses the Ergatis backen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dministrators also use Ergati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ew interface featur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ccounts and permission syste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File management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implify pipelines and component management by reducing functionality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Provide form validation, documentation and other features to improve usability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6" name="Picture 3" descr=""/>
          <p:cNvPicPr/>
          <p:nvPr/>
        </p:nvPicPr>
        <p:blipFill>
          <a:blip r:embed="rId1"/>
          <a:stretch/>
        </p:blipFill>
        <p:spPr>
          <a:xfrm>
            <a:off x="4419720" y="3378240"/>
            <a:ext cx="304560" cy="1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17:19:32Z</dcterms:created>
  <dc:creator>Chris</dc:creator>
  <dc:description/>
  <dc:language>en-US</dc:language>
  <cp:lastModifiedBy>Chris</cp:lastModifiedBy>
  <dcterms:modified xsi:type="dcterms:W3CDTF">2010-01-15T23:15:04Z</dcterms:modified>
  <cp:revision>12</cp:revision>
  <dc:subject/>
  <dc:title>Slide 1</dc:title>
</cp:coreProperties>
</file>